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2E7-FFC5-4706-892E-0D6B5DF4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F3A-7D69-46F9-9114-3FE8C321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E70-D06B-4F22-A60E-1DB88030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BDB-9CCA-4E04-90B3-68FD6273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009-EFC5-41D7-86BB-AC5557FA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1D1-0C12-4657-82F4-746F50ED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0D9-F2BC-488E-B72E-66E8C74B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816-BA74-4153-ACB1-4BF527C9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1C5-E995-4EA0-B226-E3FFEDCF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A43-EF3F-49EA-85C0-8379C3E8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85C-60A1-47AB-A447-92C3034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932-0CB2-4535-8D2D-76D3AA0A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9C3A-BB3C-4729-9D56-0A93FD538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05720" y="2666880"/>
            <a:ext cx="2438280" cy="171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77120" y="4835520"/>
            <a:ext cx="2666880" cy="1946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2057400" cy="17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4925880"/>
            <a:ext cx="2438280" cy="193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362400" y="4952880"/>
            <a:ext cx="258120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048120" y="76320"/>
            <a:ext cx="1143000" cy="184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130640" y="76320"/>
            <a:ext cx="2041560" cy="192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629400" y="103320"/>
            <a:ext cx="2438280" cy="164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80880" y="76320"/>
            <a:ext cx="965160" cy="99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914400" y="1066680"/>
            <a:ext cx="990720" cy="944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1560600" y="76320"/>
            <a:ext cx="95400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3429000" y="2468520"/>
            <a:ext cx="22860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2560680"/>
            <a:ext cx="2971800" cy="193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29000" y="4997520"/>
            <a:ext cx="2438280" cy="178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281952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102440" y="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05320" y="0"/>
            <a:ext cx="2286000" cy="2111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553080" y="253368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7848720" y="3581280"/>
            <a:ext cx="1218960" cy="838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6477120" y="512136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0" y="5106960"/>
            <a:ext cx="25909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05320" y="376200"/>
            <a:ext cx="2590560" cy="166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53080" y="219240"/>
            <a:ext cx="2590920" cy="1685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705720" y="4776840"/>
            <a:ext cx="2438280" cy="2081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513072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00400" y="5022720"/>
            <a:ext cx="2819520" cy="183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553080" y="2579760"/>
            <a:ext cx="2590920" cy="1687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862360" cy="2143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2666880"/>
            <a:ext cx="2619360" cy="1760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657600" y="2514600"/>
            <a:ext cx="1962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2-01T18:43:22Z</dcterms:modified>
  <cp:revision>16</cp:revision>
  <dc:subject/>
  <dc:title>Slide 1</dc:title>
</cp:coreProperties>
</file>